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74074"/>
        <c:axId val="58513624"/>
      </c:barChart>
      <c:catAx>
        <c:axId val="89974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13624"/>
        <c:crosses val="autoZero"/>
        <c:auto val="1"/>
        <c:lblAlgn val="ctr"/>
        <c:lblOffset val="100"/>
        <c:noMultiLvlLbl val="0"/>
      </c:catAx>
      <c:valAx>
        <c:axId val="58513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74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DC3-FF11-409F-A0AA-DC357B48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1DE-766A-4724-82E2-B4676C1B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6A9-E2C5-4F0A-993E-E2F6FA48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F8A-DC31-453E-9FB2-788075A4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D5D-4DA8-4C14-93F4-E2EC8422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3EC-83F0-47EC-B59E-35A3528D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D05-298A-428B-8726-441CF775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200-6967-48A8-8557-ECC33695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CD6-8D2B-45A1-857E-024809C7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D2B-6DCB-45F8-B922-1C8A09A8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803-4A31-4AAA-B88E-AF16E212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BB2-C03E-4283-83A7-620816DB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0F379-83FF-4D1F-94C8-2FDF742619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