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666655"/>
        <c:axId val="5392303"/>
      </c:barChart>
      <c:catAx>
        <c:axId val="396666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2303"/>
        <c:crosses val="autoZero"/>
        <c:auto val="1"/>
        <c:lblAlgn val="ctr"/>
        <c:lblOffset val="100"/>
        <c:noMultiLvlLbl val="0"/>
      </c:catAx>
      <c:valAx>
        <c:axId val="53923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666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8CC4-4882-4A41-A9CB-A50A2AD8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10EE-63F4-4FEA-A50F-75BC22ED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F964-5021-4F78-AD9F-B38F8F2A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5A2C-BA56-45F4-9735-397075BB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B484-2F7B-477E-BE5F-A73A5906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02B5-E4D5-4C7A-A542-2287FB33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CEA8-5CFF-4DBD-9FEA-FCF85B17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5DCB-96A4-49CB-8297-EBD9D54B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9887-A255-4C2F-BC4D-CA353826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D6A3-B7D0-41DF-BE5F-4D0F6433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A7EE-EB83-432C-A680-8F76FAE4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62B9-9ADC-4DED-9FF2-DEF06576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63C6D-3ED5-4614-A02A-5047C0F6B5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