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164200"/>
        <c:axId val="96854406"/>
      </c:barChart>
      <c:catAx>
        <c:axId val="961642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54406"/>
        <c:crosses val="autoZero"/>
        <c:auto val="1"/>
        <c:lblAlgn val="ctr"/>
        <c:lblOffset val="100"/>
        <c:noMultiLvlLbl val="0"/>
      </c:catAx>
      <c:valAx>
        <c:axId val="968544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642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7F03-C161-47BB-9296-11CE75BE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7C0-64F0-43D4-A466-8F29811A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B06A-FD73-4FA4-BA0F-5E6FBC69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C68F-AC64-448B-BC6C-D0800F22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3B1C-5A8A-4A0B-8B37-86DD5ADB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E0E2-FBCF-477D-9F89-A089CA3B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335-24FC-4287-B5E0-697EAA66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6C30-D905-4DC1-AB68-681C040B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AF9F-5E0D-4254-BC69-9E853CCF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0473-299B-41C2-B70E-AD470E05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7040-9214-4542-BE31-CDB5CBD1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8A4C-68D6-436D-B590-4D67A60A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754E4-20A6-42FA-92F1-FD03D4F4E1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